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F25-155B-4968-ADD9-FEF55BBA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8F9-2BBD-4530-B731-B29F8D84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732-8697-43CE-BCD7-65751E3F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D11-44FE-44E3-8593-A9D5FC2F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3955-F1C0-4899-A351-94CF7407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A3A0-4CD4-4225-9BD5-0595C599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906B-CC11-4ADF-BA1E-FE686A33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C261-A150-432D-9C52-5CF8CA93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DAF8-16D4-46D4-8B1C-00765D44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400F-1D64-47B9-BB59-985B9852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CC06-7655-422E-95C7-A20FA5DA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D29-A834-40FD-AD3B-E32D8E35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0DD8-DFBB-40AD-82E1-8BC3C22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8AF8-E903-4CD5-951A-1851E95D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42B4-E0C5-4B01-B27E-F931675D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8DB4-399E-4D3E-8041-40AEB46C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B132-49D6-41E5-83EC-282D329C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426-C9F0-4247-9F5B-578F146F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689-EF73-4FCB-9CD4-EABBE7AC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D6E-3B72-44ED-9F30-CDF31B36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23E-F8F5-4049-BDB9-8C50F41D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D33-4F92-48EB-968F-28FFF04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BA1-02F9-4515-A30E-58BB327E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E66-9225-46C5-806E-6199684A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2908-51F4-4331-9787-4C891BD833E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FBCA-3343-4DC0-8B26-3793A014B27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bskids.org/itsmylife/celeebs/audio/taylor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I: Data Collection: Interview Techniq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 process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Ask to the chosen respondent/s an appointment: time, venue, permission to record etc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interviewer decide the venue should be prepared with a friendly atmosphere, not noisy, neutral without influences for the interview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Estimate the length of the inter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ou cannot conduct it in 2 times or be interrupted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Record the inter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portant to listen and transcribe the answer to code them easi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 process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Arial"/>
              </a:rPr>
              <a:t>Notice the interviewee behaviour, attitudes.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66cc"/>
                </a:solidFill>
                <a:latin typeface="Arial"/>
              </a:rPr>
              <a:t>Make a blue/pri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90092"/>
                </a:solidFill>
                <a:latin typeface="Arial"/>
              </a:rPr>
              <a:t>Remember questions should b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66"/>
                </a:solidFill>
                <a:latin typeface="Arial"/>
              </a:rPr>
              <a:t>Cl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Non l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Arial"/>
              </a:rPr>
              <a:t>Avoid jarg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One at a ti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Use KISS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collect interview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Before designing the interview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Decide the purpo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The results you need to 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Decide the methods of analys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Decide how to present results/find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Interview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How to collect interview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Choose a topic of your inter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Design an interview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Defining what is the pur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Define how you will collec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Define how you will analyz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Arial"/>
              </a:rPr>
              <a:t>Define how you will presen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785880" y="4202280"/>
            <a:ext cx="49672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106560" bIns="1065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pbskids.org/itsmylife/celeebs/audio/taylo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Recall prior 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Types of questions in th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Types of questions in th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Examples of the 3 types of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Analyzing an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Interviewer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all prior knowled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is a surve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are the method used for survey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ased on what we choose the meth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are the advantages of each meth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are the tool used in each meth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questions in the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Structured interview (close/en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ff"/>
                </a:solidFill>
                <a:latin typeface="Arial"/>
              </a:rPr>
              <a:t>Unstructured interview (open/en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Semi/Structured interview (mix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What are the advantages and disadvantages of these types of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How to ask the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66"/>
                </a:solidFill>
                <a:latin typeface="Arial"/>
              </a:rPr>
              <a:t>Examples of the 3 types of questions</a:t>
            </a:r>
            <a:r>
              <a:rPr b="1" lang="en-US" sz="3900" spc="-1" strike="noStrike">
                <a:solidFill>
                  <a:srgbClr val="3366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tructured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Do you think that Qatar should bid for the 2016 Olympics? Semi/Structured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Likert scale, Dichotomu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Un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Arial"/>
              </a:rPr>
              <a:t>What do you think about Qatar biding for the 2016 Olympic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ff"/>
                </a:solidFill>
                <a:latin typeface="Arial"/>
              </a:rPr>
              <a:t>Semi/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Do you think that Qatar should bid for the 2016 Olympics?……..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yzing an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Arial"/>
              </a:rPr>
              <a:t>Activity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yze the transcript of the interview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ff"/>
                </a:solidFill>
                <a:latin typeface="Arial"/>
              </a:rPr>
              <a:t>What type of interview is this?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66ff"/>
                </a:solidFill>
                <a:latin typeface="Arial"/>
              </a:rPr>
              <a:t>(Structured, Unstructured or semi/structur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Arial"/>
              </a:rPr>
              <a:t>Which are open/ended and which close/ended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Are the questions biased/leading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er ski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viewer mu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Make the interviewee feel comfor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Be flex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Notice all gestures, facial expressions, behaviours and attitude of interviewe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Understand when it is necessary to ask open/ended questions to have better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66"/>
                </a:solidFill>
                <a:latin typeface="Arial"/>
              </a:rPr>
              <a:t>Do not influence the interviewee with your ges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 process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Arial"/>
              </a:rPr>
              <a:t>Make the seg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Design th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Arial"/>
              </a:rPr>
              <a:t>Seek for “Informed Consent”of chosen respondent/s if they agree to be interviewed, explain the purpose and inform them about all they need to know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see ethics of surv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t.alnuimi</cp:lastModifiedBy>
  <dcterms:modified xsi:type="dcterms:W3CDTF">2008-08-07T10:44:22Z</dcterms:modified>
  <cp:revision>59</cp:revision>
  <dc:subject/>
  <dc:title>Course: Fundamentals of Research</dc:title>
</cp:coreProperties>
</file>